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3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3.jpeg" ContentType="image/jpeg"/>
  <Override PartName="/ppt/media/image25.png" ContentType="image/png"/>
  <Override PartName="/ppt/media/image13.png" ContentType="image/png"/>
  <Override PartName="/ppt/media/image12.jpeg" ContentType="image/jpeg"/>
  <Override PartName="/ppt/media/image48.png" ContentType="image/png"/>
  <Override PartName="/ppt/media/image33.jpeg" ContentType="image/jpeg"/>
  <Override PartName="/ppt/media/image40.wmf" ContentType="image/x-wmf"/>
  <Override PartName="/ppt/media/image34.jpeg" ContentType="image/jpeg"/>
  <Override PartName="/ppt/media/image42.png" ContentType="image/png"/>
  <Override PartName="/ppt/media/image43.wmf" ContentType="image/x-wmf"/>
  <Override PartName="/ppt/media/image44.wmf" ContentType="image/x-wmf"/>
  <Override PartName="/ppt/media/image35.png" ContentType="image/png"/>
  <Override PartName="/ppt/media/image5.jpeg" ContentType="image/jpeg"/>
  <Override PartName="/ppt/media/image45.jpeg" ContentType="image/jpeg"/>
  <Override PartName="/ppt/media/image46.png" ContentType="image/png"/>
  <Override PartName="/ppt/media/image6.wmf" ContentType="image/x-wmf"/>
  <Override PartName="/ppt/media/image36.png" ContentType="image/png"/>
  <Override PartName="/ppt/media/image10.png" ContentType="image/png"/>
  <Override PartName="/ppt/media/image47.png" ContentType="image/png"/>
  <Override PartName="/ppt/media/image7.wmf" ContentType="image/x-wmf"/>
  <Override PartName="/ppt/media/image37.wmf" ContentType="image/x-wmf"/>
  <Override PartName="/ppt/media/image30.jpeg" ContentType="image/jpeg"/>
  <Override PartName="/ppt/media/image41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38.wmf" ContentType="image/x-wmf"/>
  <Override PartName="/ppt/media/image4.jpeg" ContentType="image/jpeg"/>
  <Override PartName="/ppt/media/image2.png" ContentType="image/png"/>
  <Override PartName="/ppt/media/image3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6AFC-0892-4426-99BB-9FBAA850B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46EF-B623-4ACA-B0EB-5913698DF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AC3F-E6A0-4F46-AD1C-D2F13711C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E193-3FCE-498D-AF62-E9959F6D7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60575-25EF-46FD-AFCF-095B52716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23929-3A0C-41D0-A506-2E688448E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A6A5E-37ED-44A1-A8DC-D942D575B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F1D34-13F1-4652-B2E7-D962B9260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3F7D8-CCF6-4D84-8B1C-1DF4A0125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7B1BB-1B53-430C-9678-2437F5DC9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756B2-8C76-48DF-A44A-AD6D0798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0A4D-DAC2-4C23-AB30-19B69E5AA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99387-8E1A-46CA-BF06-E0E21386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3D3BB-3BE8-4F37-ABA3-C9083345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15E33-B11A-4428-855F-553A029A5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C2429-A7B1-46B3-AF5E-8043D1831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698E0-B8C7-4C79-8DA7-9D6B3BD4E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B238D-FC9A-42E5-9930-38049E3DA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40681-4C69-4C11-BF75-66081BD83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56B7B-56C7-45D2-9411-6AFBC89BB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7782B-F721-4944-8615-D5961DD49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46BCE-4AE4-4049-9712-96089D2AD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ED78-4233-40EA-B389-8BBC81AD7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5466F-FA40-46DF-8C5C-1CD79F6D5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BA4DF-21F8-4BE5-BF9E-4FCDA2C3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A3DAA-EBBD-4B66-8B12-A5D9992B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7E154-5063-48D7-86D5-FAE44E1C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B026E-A99A-4E88-9244-0DE95026C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DBB61-DAE4-49C1-83D8-CC19EC458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5FEE6-DE09-422C-80EC-F5788B65F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015A-8A2C-42F6-B8D9-C292B12F9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BCD7-8524-4D5E-83B4-4B8350C7D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B280-9904-4C48-9C04-BDCFA6D7A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A8F2-2316-4284-BFC9-960B10B7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E531-27FE-430D-AEF3-D87FF56E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CE9A-EA73-4853-96FB-3207A114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28907-4B7C-4621-939B-E57466DC3A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43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46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>
                  <a:gd name="textAreaLeft" fmla="*/ 0 w 1306440"/>
                  <a:gd name="textAreaRight" fmla="*/ 1306440 w 13064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>
                  <a:gd name="textAreaLeft" fmla="*/ 0 w 653760"/>
                  <a:gd name="textAreaRight" fmla="*/ 653760 w 65376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5C8C7-E527-4085-8E04-DE4A9BF870C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3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94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6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97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>
                  <a:gd name="textAreaLeft" fmla="*/ 0 w 2089080"/>
                  <a:gd name="textAreaRight" fmla="*/ 2089440 w 20890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>
                  <a:gd name="textAreaLeft" fmla="*/ 0 w 4178160"/>
                  <a:gd name="textAreaRight" fmla="*/ 4178160 w 417816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>
                  <a:gd name="textAreaLeft" fmla="*/ 0 w 2090880"/>
                  <a:gd name="textAreaRight" fmla="*/ 2091240 w 20908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1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8BD04-9E17-4FB7-9CA4-81C3558D3419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The Greatest Scientists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Their Inventions 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 Discoveries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6000840" y="5715000"/>
            <a:ext cx="2928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35280" y="189000"/>
            <a:ext cx="4749840" cy="11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arie Cur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916360" y="134136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nch physici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564000" y="306864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radium in 189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Picture 7" descr=""/>
          <p:cNvPicPr/>
          <p:nvPr/>
        </p:nvPicPr>
        <p:blipFill>
          <a:blip r:embed="rId1"/>
          <a:stretch/>
        </p:blipFill>
        <p:spPr>
          <a:xfrm>
            <a:off x="7020000" y="0"/>
            <a:ext cx="1888920" cy="25527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"/>
          <p:cNvPicPr/>
          <p:nvPr/>
        </p:nvPicPr>
        <p:blipFill>
          <a:blip r:embed="rId2"/>
          <a:stretch/>
        </p:blipFill>
        <p:spPr>
          <a:xfrm>
            <a:off x="0" y="2637000"/>
            <a:ext cx="3463920" cy="4221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2" descr="CHEM"/>
          <p:cNvPicPr/>
          <p:nvPr/>
        </p:nvPicPr>
        <p:blipFill>
          <a:blip r:embed="rId3"/>
          <a:stretch/>
        </p:blipFill>
        <p:spPr>
          <a:xfrm>
            <a:off x="6842160" y="3789360"/>
            <a:ext cx="2301840" cy="30686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4"/>
          <p:cNvSpPr/>
          <p:nvPr/>
        </p:nvSpPr>
        <p:spPr>
          <a:xfrm>
            <a:off x="3492360" y="198900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 born in Wars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3348000" y="4292640"/>
            <a:ext cx="3168720" cy="19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11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eiv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bel Priz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6502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Graham Bel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95280" y="980640"/>
            <a:ext cx="22431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47-19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1"/>
          <a:stretch/>
        </p:blipFill>
        <p:spPr>
          <a:xfrm>
            <a:off x="5770440" y="4672080"/>
            <a:ext cx="3373560" cy="21859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4"/>
          <p:cNvSpPr/>
          <p:nvPr/>
        </p:nvSpPr>
        <p:spPr>
          <a:xfrm>
            <a:off x="0" y="1484280"/>
            <a:ext cx="68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Edinburgh, Scotland, in184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250920" y="22766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the telephone in 187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0" y="2924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me a citizen of the United States in 18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2160720" cy="2636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"/>
          <p:cNvPicPr/>
          <p:nvPr/>
        </p:nvPicPr>
        <p:blipFill>
          <a:blip r:embed="rId3"/>
          <a:stretch/>
        </p:blipFill>
        <p:spPr>
          <a:xfrm>
            <a:off x="1547640" y="4437000"/>
            <a:ext cx="1656000" cy="1298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"/>
          <p:cNvPicPr/>
          <p:nvPr/>
        </p:nvPicPr>
        <p:blipFill>
          <a:blip r:embed="rId4"/>
          <a:stretch/>
        </p:blipFill>
        <p:spPr>
          <a:xfrm>
            <a:off x="250920" y="3645000"/>
            <a:ext cx="1463760" cy="1436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"/>
          <p:cNvPicPr/>
          <p:nvPr/>
        </p:nvPicPr>
        <p:blipFill>
          <a:blip r:embed="rId5">
            <a:grayscl/>
          </a:blip>
          <a:stretch/>
        </p:blipFill>
        <p:spPr>
          <a:xfrm flipH="1">
            <a:off x="3348000" y="5300640"/>
            <a:ext cx="1371600" cy="1220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5" descr=""/>
          <p:cNvPicPr/>
          <p:nvPr/>
        </p:nvPicPr>
        <p:blipFill>
          <a:blip r:embed="rId6"/>
          <a:stretch/>
        </p:blipFill>
        <p:spPr>
          <a:xfrm>
            <a:off x="4356000" y="3645000"/>
            <a:ext cx="857520" cy="1506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van Pavl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40" name="Picture 11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2476440" cy="3057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3" descr=""/>
          <p:cNvPicPr/>
          <p:nvPr/>
        </p:nvPicPr>
        <p:blipFill>
          <a:blip r:embed="rId2"/>
          <a:stretch/>
        </p:blipFill>
        <p:spPr>
          <a:xfrm>
            <a:off x="5796000" y="4149720"/>
            <a:ext cx="3141720" cy="19810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7"/>
          <p:cNvSpPr/>
          <p:nvPr/>
        </p:nvSpPr>
        <p:spPr>
          <a:xfrm>
            <a:off x="3276720" y="155736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49-19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395280" y="220500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olog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611280" y="3860640"/>
            <a:ext cx="4174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179280" y="292428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ditional reflex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Picture 15" descr="DOG1"/>
          <p:cNvPicPr/>
          <p:nvPr/>
        </p:nvPicPr>
        <p:blipFill>
          <a:blip r:embed="rId3"/>
          <a:stretch/>
        </p:blipFill>
        <p:spPr>
          <a:xfrm>
            <a:off x="324000" y="476280"/>
            <a:ext cx="2447640" cy="1666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7" descr=""/>
          <p:cNvPicPr/>
          <p:nvPr/>
        </p:nvPicPr>
        <p:blipFill>
          <a:blip r:embed="rId4"/>
          <a:stretch/>
        </p:blipFill>
        <p:spPr>
          <a:xfrm>
            <a:off x="324000" y="3716280"/>
            <a:ext cx="1803240" cy="2835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3" descr="28080-3019"/>
          <p:cNvPicPr/>
          <p:nvPr/>
        </p:nvPicPr>
        <p:blipFill>
          <a:blip r:embed="rId5"/>
          <a:stretch/>
        </p:blipFill>
        <p:spPr>
          <a:xfrm>
            <a:off x="2843280" y="4292640"/>
            <a:ext cx="25398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8200" y="465120"/>
            <a:ext cx="488952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bert Einstein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52240" y="2200320"/>
            <a:ext cx="465444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amous physicist-theorist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" name="Picture 10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162160" cy="28083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4"/>
          <p:cNvSpPr/>
          <p:nvPr/>
        </p:nvSpPr>
        <p:spPr>
          <a:xfrm>
            <a:off x="250920" y="285264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Germ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250920" y="371628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d in Switzerland and in the U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2050920" y="472428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heory of rela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4911840" y="1432080"/>
            <a:ext cx="282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1187280" y="1125360"/>
            <a:ext cx="29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79-195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Picture 12" descr=""/>
          <p:cNvPicPr/>
          <p:nvPr/>
        </p:nvPicPr>
        <p:blipFill>
          <a:blip r:embed="rId2"/>
          <a:stretch/>
        </p:blipFill>
        <p:spPr>
          <a:xfrm>
            <a:off x="179280" y="4365720"/>
            <a:ext cx="1959120" cy="2120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4" descr=""/>
          <p:cNvPicPr/>
          <p:nvPr/>
        </p:nvPicPr>
        <p:blipFill>
          <a:blip r:embed="rId3"/>
          <a:stretch/>
        </p:blipFill>
        <p:spPr>
          <a:xfrm>
            <a:off x="7093080" y="3500280"/>
            <a:ext cx="1728720" cy="2583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bb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484000" y="1484280"/>
            <a:ext cx="602316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The world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of science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has no borders.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19280" y="380880"/>
            <a:ext cx="4392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Ts’ai Lu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131640" y="1484280"/>
            <a:ext cx="40388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nese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0" y="4229280"/>
            <a:ext cx="3419640" cy="2628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179280" y="263700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paper in the first centu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7" descr="BOOKS2"/>
          <p:cNvPicPr/>
          <p:nvPr/>
        </p:nvPicPr>
        <p:blipFill>
          <a:blip r:embed="rId2"/>
          <a:stretch/>
        </p:blipFill>
        <p:spPr>
          <a:xfrm>
            <a:off x="6912000" y="4941720"/>
            <a:ext cx="2232000" cy="1525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1326960" cy="1625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"/>
          <p:cNvPicPr/>
          <p:nvPr/>
        </p:nvPicPr>
        <p:blipFill>
          <a:blip r:embed="rId4"/>
          <a:stretch/>
        </p:blipFill>
        <p:spPr>
          <a:xfrm>
            <a:off x="4643280" y="3933720"/>
            <a:ext cx="3492720" cy="2611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"/>
          <p:cNvPicPr/>
          <p:nvPr/>
        </p:nvPicPr>
        <p:blipFill>
          <a:blip r:embed="rId5"/>
          <a:stretch/>
        </p:blipFill>
        <p:spPr>
          <a:xfrm>
            <a:off x="6588000" y="1052640"/>
            <a:ext cx="2260800" cy="2716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saac Newton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27640" y="1341000"/>
            <a:ext cx="20160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643-172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15" descr=""/>
          <p:cNvPicPr/>
          <p:nvPr/>
        </p:nvPicPr>
        <p:blipFill>
          <a:blip r:embed="rId1"/>
          <a:stretch/>
        </p:blipFill>
        <p:spPr>
          <a:xfrm>
            <a:off x="6556320" y="404640"/>
            <a:ext cx="2282760" cy="3024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250920" y="50133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work “Elements of Natural philosophy”,168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24000" y="61657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тематические числа натуральной философи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2124000" y="191628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great English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250920" y="242100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611280" y="3645000"/>
            <a:ext cx="33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всемирного тягот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468360" y="4005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 laws of mechan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324000" y="4581360"/>
            <a:ext cx="5833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и закона механ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395280" y="305928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 of universal gra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7" descr=""/>
          <p:cNvPicPr/>
          <p:nvPr/>
        </p:nvPicPr>
        <p:blipFill>
          <a:blip r:embed="rId2"/>
          <a:stretch/>
        </p:blipFill>
        <p:spPr>
          <a:xfrm>
            <a:off x="0" y="0"/>
            <a:ext cx="1833480" cy="2187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"/>
          <p:cNvPicPr/>
          <p:nvPr/>
        </p:nvPicPr>
        <p:blipFill>
          <a:blip r:embed="rId3"/>
          <a:stretch/>
        </p:blipFill>
        <p:spPr>
          <a:xfrm>
            <a:off x="6659640" y="3573360"/>
            <a:ext cx="2309760" cy="30560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84360" y="549360"/>
            <a:ext cx="60451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Galileo Galilei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492360" y="980640"/>
            <a:ext cx="2160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6e6"/>
                </a:solidFill>
                <a:latin typeface="Tahoma"/>
              </a:rPr>
              <a:t>1564-164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6012000" y="1125360"/>
            <a:ext cx="302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alian scient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826920" y="350028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95280" y="3213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ent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468360" y="5661000"/>
            <a:ext cx="2735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5940360" y="2205000"/>
            <a:ext cx="230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mome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084720" y="2781360"/>
            <a:ext cx="23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6156360" y="3429000"/>
            <a:ext cx="28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e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4680000" y="4941720"/>
            <a:ext cx="446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untains on the  mo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4788000" y="5697360"/>
            <a:ext cx="33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ts on the Su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15" descr=""/>
          <p:cNvPicPr/>
          <p:nvPr/>
        </p:nvPicPr>
        <p:blipFill>
          <a:blip r:embed="rId1"/>
          <a:stretch/>
        </p:blipFill>
        <p:spPr>
          <a:xfrm>
            <a:off x="39600" y="115920"/>
            <a:ext cx="2479680" cy="3025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1305000" cy="1872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7" descr=""/>
          <p:cNvPicPr/>
          <p:nvPr/>
        </p:nvPicPr>
        <p:blipFill>
          <a:blip r:embed="rId3"/>
          <a:stretch/>
        </p:blipFill>
        <p:spPr>
          <a:xfrm>
            <a:off x="4140360" y="1700280"/>
            <a:ext cx="1382400" cy="1727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8" descr=""/>
          <p:cNvPicPr/>
          <p:nvPr/>
        </p:nvPicPr>
        <p:blipFill>
          <a:blip r:embed="rId4"/>
          <a:stretch/>
        </p:blipFill>
        <p:spPr>
          <a:xfrm>
            <a:off x="2556000" y="1557360"/>
            <a:ext cx="1239840" cy="2232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9" descr=""/>
          <p:cNvPicPr/>
          <p:nvPr/>
        </p:nvPicPr>
        <p:blipFill>
          <a:blip r:embed="rId5"/>
          <a:stretch/>
        </p:blipFill>
        <p:spPr>
          <a:xfrm>
            <a:off x="3132000" y="4076640"/>
            <a:ext cx="1467000" cy="2336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2" descr="SCOPE"/>
          <p:cNvPicPr/>
          <p:nvPr/>
        </p:nvPicPr>
        <p:blipFill>
          <a:blip r:embed="rId6"/>
          <a:stretch/>
        </p:blipFill>
        <p:spPr>
          <a:xfrm>
            <a:off x="4140360" y="1628640"/>
            <a:ext cx="1484280" cy="2248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51829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ichael Faraday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5" name="Picture 12" descr=""/>
          <p:cNvPicPr/>
          <p:nvPr/>
        </p:nvPicPr>
        <p:blipFill>
          <a:blip r:embed="rId1"/>
          <a:stretch/>
        </p:blipFill>
        <p:spPr>
          <a:xfrm>
            <a:off x="6835680" y="2565360"/>
            <a:ext cx="2129040" cy="4103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"/>
          <p:cNvPicPr/>
          <p:nvPr/>
        </p:nvPicPr>
        <p:blipFill>
          <a:blip r:embed="rId2"/>
          <a:stretch/>
        </p:blipFill>
        <p:spPr>
          <a:xfrm>
            <a:off x="7288200" y="115920"/>
            <a:ext cx="1855800" cy="2349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539640" y="1125360"/>
            <a:ext cx="496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nglish physicist and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324000" y="1844640"/>
            <a:ext cx="59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nections  between electricity and magnet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79280" y="429264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324000" y="3141720"/>
            <a:ext cx="64069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83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magneto-electricit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3348000" y="692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791-186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14" descr=""/>
          <p:cNvPicPr/>
          <p:nvPr/>
        </p:nvPicPr>
        <p:blipFill>
          <a:blip r:embed="rId3"/>
          <a:stretch/>
        </p:blipFill>
        <p:spPr>
          <a:xfrm>
            <a:off x="179280" y="4584600"/>
            <a:ext cx="2521080" cy="2084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640" y="380880"/>
            <a:ext cx="4829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Pop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95640" y="1413000"/>
            <a:ext cx="295272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9-190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8" descr=""/>
          <p:cNvPicPr/>
          <p:nvPr/>
        </p:nvPicPr>
        <p:blipFill>
          <a:blip r:embed="rId1"/>
          <a:stretch/>
        </p:blipFill>
        <p:spPr>
          <a:xfrm>
            <a:off x="6610320" y="620640"/>
            <a:ext cx="2484360" cy="33130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3276720" y="2276640"/>
            <a:ext cx="324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c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500720" y="4437000"/>
            <a:ext cx="35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radio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89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0" y="5661000"/>
            <a:ext cx="896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t Golden Medal in the World Exhibition in Paris,19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10" descr=""/>
          <p:cNvPicPr/>
          <p:nvPr/>
        </p:nvPicPr>
        <p:blipFill>
          <a:blip r:embed="rId2"/>
          <a:stretch/>
        </p:blipFill>
        <p:spPr>
          <a:xfrm>
            <a:off x="179280" y="2924280"/>
            <a:ext cx="3276720" cy="2503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"/>
          <p:cNvPicPr/>
          <p:nvPr/>
        </p:nvPicPr>
        <p:blipFill>
          <a:blip r:embed="rId3"/>
          <a:stretch/>
        </p:blipFill>
        <p:spPr>
          <a:xfrm>
            <a:off x="179280" y="333360"/>
            <a:ext cx="1584360" cy="1533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3" descr=""/>
          <p:cNvPicPr/>
          <p:nvPr/>
        </p:nvPicPr>
        <p:blipFill>
          <a:blip r:embed="rId1"/>
          <a:stretch/>
        </p:blipFill>
        <p:spPr>
          <a:xfrm>
            <a:off x="6156360" y="333360"/>
            <a:ext cx="2417760" cy="33116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18920" y="1267920"/>
            <a:ext cx="237492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8-19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395280" y="378936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395280" y="4005360"/>
            <a:ext cx="756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1547640" y="198900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rman engine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250920" y="5950080"/>
            <a:ext cx="828036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d diesel engine, special machine in 187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108000" y="189000"/>
            <a:ext cx="6048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Rudolf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Engine    Diesel</a:t>
            </a:r>
            <a:r>
              <a:rPr b="0" lang="en-US" sz="1800" spc="-1" strike="noStrike">
                <a:solidFill>
                  <a:srgbClr val="e5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Picture 15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3405240" cy="2352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8" descr="TRAIN"/>
          <p:cNvPicPr/>
          <p:nvPr/>
        </p:nvPicPr>
        <p:blipFill>
          <a:blip r:embed="rId3"/>
          <a:stretch/>
        </p:blipFill>
        <p:spPr>
          <a:xfrm>
            <a:off x="3708360" y="2708280"/>
            <a:ext cx="1946160" cy="969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9" descr="поезд"/>
          <p:cNvPicPr/>
          <p:nvPr/>
        </p:nvPicPr>
        <p:blipFill>
          <a:blip r:embed="rId4"/>
          <a:stretch/>
        </p:blipFill>
        <p:spPr>
          <a:xfrm>
            <a:off x="4716360" y="4221000"/>
            <a:ext cx="403236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5045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Dimitry Mendeleye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58920" y="134136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34-190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1"/>
          <a:stretch/>
        </p:blipFill>
        <p:spPr>
          <a:xfrm>
            <a:off x="5576760" y="333360"/>
            <a:ext cx="2957760" cy="37450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324000" y="2637000"/>
            <a:ext cx="71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1042920" y="2060640"/>
            <a:ext cx="31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250920" y="57340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able of chemical  elements in 186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Picture 9" descr=""/>
          <p:cNvPicPr/>
          <p:nvPr/>
        </p:nvPicPr>
        <p:blipFill>
          <a:blip r:embed="rId2"/>
          <a:stretch/>
        </p:blipFill>
        <p:spPr>
          <a:xfrm>
            <a:off x="474840" y="2968560"/>
            <a:ext cx="4244760" cy="2538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"/>
          <p:cNvPicPr/>
          <p:nvPr/>
        </p:nvPicPr>
        <p:blipFill>
          <a:blip r:embed="rId3"/>
          <a:stretch/>
        </p:blipFill>
        <p:spPr>
          <a:xfrm>
            <a:off x="5435640" y="4292640"/>
            <a:ext cx="3095640" cy="1344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06:44:04Z</dcterms:created>
  <dc:creator>1</dc:creator>
  <dc:description/>
  <dc:language>en-US</dc:language>
  <cp:lastModifiedBy>orlova</cp:lastModifiedBy>
  <dcterms:modified xsi:type="dcterms:W3CDTF">2023-01-31T13:05:07Z</dcterms:modified>
  <cp:revision>120</cp:revision>
  <dc:subject/>
  <dc:title>Galileo Galilei </dc:title>
</cp:coreProperties>
</file>