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wmf" ContentType="image/x-wmf"/>
  <Override PartName="/ppt/media/image23.png" ContentType="image/png"/>
  <Override PartName="/ppt/media/image22.png" ContentType="image/png"/>
  <Override PartName="/ppt/media/image28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3.jpeg" ContentType="image/jpeg"/>
  <Override PartName="/ppt/media/image25.png" ContentType="image/png"/>
  <Override PartName="/ppt/media/image13.png" ContentType="image/png"/>
  <Override PartName="/ppt/media/image12.jpeg" ContentType="image/jpeg"/>
  <Override PartName="/ppt/media/image48.png" ContentType="image/png"/>
  <Override PartName="/ppt/media/image33.jpeg" ContentType="image/jpeg"/>
  <Override PartName="/ppt/media/image40.wmf" ContentType="image/x-wmf"/>
  <Override PartName="/ppt/media/image34.jpeg" ContentType="image/jpeg"/>
  <Override PartName="/ppt/media/image42.png" ContentType="image/png"/>
  <Override PartName="/ppt/media/image43.wmf" ContentType="image/x-wmf"/>
  <Override PartName="/ppt/media/image44.wmf" ContentType="image/x-wmf"/>
  <Override PartName="/ppt/media/image35.png" ContentType="image/png"/>
  <Override PartName="/ppt/media/image5.jpeg" ContentType="image/jpeg"/>
  <Override PartName="/ppt/media/image45.jpeg" ContentType="image/jpeg"/>
  <Override PartName="/ppt/media/image46.png" ContentType="image/png"/>
  <Override PartName="/ppt/media/image6.wmf" ContentType="image/x-wmf"/>
  <Override PartName="/ppt/media/image36.png" ContentType="image/png"/>
  <Override PartName="/ppt/media/image10.png" ContentType="image/png"/>
  <Override PartName="/ppt/media/image47.png" ContentType="image/png"/>
  <Override PartName="/ppt/media/image7.wmf" ContentType="image/x-wmf"/>
  <Override PartName="/ppt/media/image37.wmf" ContentType="image/x-wmf"/>
  <Override PartName="/ppt/media/image30.jpeg" ContentType="image/jpeg"/>
  <Override PartName="/ppt/media/image41.png" ContentType="image/png"/>
  <Override PartName="/ppt/media/image39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38.wmf" ContentType="image/x-wmf"/>
  <Override PartName="/ppt/media/image4.jpeg" ContentType="image/jpeg"/>
  <Override PartName="/ppt/media/image2.png" ContentType="image/png"/>
  <Override PartName="/ppt/media/image3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DFEC-DC37-4D6E-968B-81AE41BC6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F9B5-75AF-464E-A943-7968EB42C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8F77-D637-481F-AD41-1BFFAF74F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1581-6708-4CEB-9A14-01A4FC802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FF11A-04EA-4170-8AF1-17A7315A8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48A79-E907-436A-8BBA-E8530D3AE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DD240-A757-4315-80B7-75627C4D1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51D08-8145-4D07-841D-C1C919CF5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C6CB1-CCE0-46FA-9B3D-F7B6B7AC1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6EE3B-0B7E-4065-8771-6AABEA048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C383D-520C-4D18-9E48-491FD2318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5619-BE32-4F7E-8D1C-7178D599B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3A3A6-3E47-4EE0-B8D5-8EC4F116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D66F1-9A56-400C-961A-E6E5AA6C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6E393-7EBB-4B0F-9AD8-E6AE02B8E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1EB51-8E28-48C2-B8A6-77B7A9FC8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7689D-1C58-4DE6-80AD-7E315D9B8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60BED-9C7E-4255-845C-BBAFD1870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A609D-0301-44C6-9964-46A88D8A8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BFAFF-A2F6-4B74-B309-422247A02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8B42A-26AD-4D0E-A020-0B1893D84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E9C76-E780-44E4-BFBF-822A467E5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541F-C74F-41B3-B3AE-EE33AD7A4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93414-BF19-4025-9754-7B3855F1A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83EAF-8712-48E2-84B4-0AD72C70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EF59E-4CE8-4227-B61C-0997EA810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C6970-1EEC-4DC3-B6DA-CAD174775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9D8DF-B817-41DC-B6DE-9B1C7B80D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B7EA7-E8D1-4461-A5DF-69163E8CF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42B71-34A2-4629-9F11-EB0FC7C30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EADA-FD33-41D7-BD1A-A34D8143E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2501-E994-494A-BADF-8BAEF6EEB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AAAA-4E73-454D-9B0B-D3E5CEF83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D491-32F4-49AE-8C46-F76BEA61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8DFB-B539-478D-B3B7-9D9485B0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37B7-7264-4199-8C64-7744532E8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D13A2-634F-4903-BCA4-D895BC8B54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43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5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46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>
                  <a:gd name="textAreaLeft" fmla="*/ 0 w 654120"/>
                  <a:gd name="textAreaRight" fmla="*/ 654120 w 65412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>
                  <a:gd name="textAreaLeft" fmla="*/ 0 w 1306440"/>
                  <a:gd name="textAreaRight" fmla="*/ 1306440 w 13064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>
                  <a:gd name="textAreaLeft" fmla="*/ 0 w 653760"/>
                  <a:gd name="textAreaRight" fmla="*/ 653760 w 65376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0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723F1-996D-4538-8814-51DB6939435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3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94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>
                <a:gd name="textAreaLeft" fmla="*/ 0 w 1617480"/>
                <a:gd name="textAreaRight" fmla="*/ 1617840 w 161748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>
                <a:gd name="textAreaLeft" fmla="*/ 0 w 1617840"/>
                <a:gd name="textAreaRight" fmla="*/ 1618200 w 161784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6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97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>
                  <a:gd name="textAreaLeft" fmla="*/ 0 w 2089080"/>
                  <a:gd name="textAreaRight" fmla="*/ 2089440 w 20890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>
                  <a:gd name="textAreaLeft" fmla="*/ 0 w 4178160"/>
                  <a:gd name="textAreaRight" fmla="*/ 4178160 w 417816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>
                  <a:gd name="textAreaLeft" fmla="*/ 0 w 2090880"/>
                  <a:gd name="textAreaRight" fmla="*/ 2091240 w 20908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1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E4FF5-9F92-40A2-BBA0-95959FA5995F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wmf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The Greatest Scientists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Their Inventions 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 Discoveries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6000840" y="5715000"/>
            <a:ext cx="2928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35280" y="189000"/>
            <a:ext cx="4749840" cy="119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arie Curi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916360" y="1341360"/>
            <a:ext cx="40384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ench physicis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3564000" y="306864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radium in 189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Picture 7" descr=""/>
          <p:cNvPicPr/>
          <p:nvPr/>
        </p:nvPicPr>
        <p:blipFill>
          <a:blip r:embed="rId1"/>
          <a:stretch/>
        </p:blipFill>
        <p:spPr>
          <a:xfrm>
            <a:off x="7020000" y="0"/>
            <a:ext cx="1888920" cy="25527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"/>
          <p:cNvPicPr/>
          <p:nvPr/>
        </p:nvPicPr>
        <p:blipFill>
          <a:blip r:embed="rId2"/>
          <a:stretch/>
        </p:blipFill>
        <p:spPr>
          <a:xfrm>
            <a:off x="0" y="2637000"/>
            <a:ext cx="3463920" cy="4221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2" descr="CHEM"/>
          <p:cNvPicPr/>
          <p:nvPr/>
        </p:nvPicPr>
        <p:blipFill>
          <a:blip r:embed="rId3"/>
          <a:stretch/>
        </p:blipFill>
        <p:spPr>
          <a:xfrm>
            <a:off x="6842160" y="3789360"/>
            <a:ext cx="2301840" cy="306864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14"/>
          <p:cNvSpPr/>
          <p:nvPr/>
        </p:nvSpPr>
        <p:spPr>
          <a:xfrm>
            <a:off x="3492360" y="1989000"/>
            <a:ext cx="34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s born in Warsa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3348000" y="4292640"/>
            <a:ext cx="3168720" cy="19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1911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eiv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bel Prize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6502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Graham Bel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95280" y="980640"/>
            <a:ext cx="224316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47-192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0" name="Picture 7" descr=""/>
          <p:cNvPicPr/>
          <p:nvPr/>
        </p:nvPicPr>
        <p:blipFill>
          <a:blip r:embed="rId1"/>
          <a:stretch/>
        </p:blipFill>
        <p:spPr>
          <a:xfrm>
            <a:off x="5770440" y="4672080"/>
            <a:ext cx="3373560" cy="21859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4"/>
          <p:cNvSpPr/>
          <p:nvPr/>
        </p:nvSpPr>
        <p:spPr>
          <a:xfrm>
            <a:off x="0" y="1484280"/>
            <a:ext cx="68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Edinburgh, Scotland, in184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250920" y="22766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the telephone in 187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0" y="292428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me a citizen of the United States in 188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4" name="Picture 9" descr=""/>
          <p:cNvPicPr/>
          <p:nvPr/>
        </p:nvPicPr>
        <p:blipFill>
          <a:blip r:embed="rId2"/>
          <a:stretch/>
        </p:blipFill>
        <p:spPr>
          <a:xfrm>
            <a:off x="6804000" y="189000"/>
            <a:ext cx="2160720" cy="26366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2" descr=""/>
          <p:cNvPicPr/>
          <p:nvPr/>
        </p:nvPicPr>
        <p:blipFill>
          <a:blip r:embed="rId3"/>
          <a:stretch/>
        </p:blipFill>
        <p:spPr>
          <a:xfrm>
            <a:off x="1547640" y="4437000"/>
            <a:ext cx="1656000" cy="12985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3" descr=""/>
          <p:cNvPicPr/>
          <p:nvPr/>
        </p:nvPicPr>
        <p:blipFill>
          <a:blip r:embed="rId4"/>
          <a:stretch/>
        </p:blipFill>
        <p:spPr>
          <a:xfrm>
            <a:off x="250920" y="3645000"/>
            <a:ext cx="1463760" cy="14367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4" descr=""/>
          <p:cNvPicPr/>
          <p:nvPr/>
        </p:nvPicPr>
        <p:blipFill>
          <a:blip r:embed="rId5">
            <a:grayscl/>
          </a:blip>
          <a:stretch/>
        </p:blipFill>
        <p:spPr>
          <a:xfrm flipH="1">
            <a:off x="3348000" y="5300640"/>
            <a:ext cx="1371600" cy="12207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5" descr=""/>
          <p:cNvPicPr/>
          <p:nvPr/>
        </p:nvPicPr>
        <p:blipFill>
          <a:blip r:embed="rId6"/>
          <a:stretch/>
        </p:blipFill>
        <p:spPr>
          <a:xfrm>
            <a:off x="4356000" y="3645000"/>
            <a:ext cx="857520" cy="1506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van Pavl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40" name="Picture 11" descr=""/>
          <p:cNvPicPr/>
          <p:nvPr/>
        </p:nvPicPr>
        <p:blipFill>
          <a:blip r:embed="rId1"/>
          <a:stretch/>
        </p:blipFill>
        <p:spPr>
          <a:xfrm>
            <a:off x="6516720" y="189000"/>
            <a:ext cx="2476440" cy="30574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3" descr=""/>
          <p:cNvPicPr/>
          <p:nvPr/>
        </p:nvPicPr>
        <p:blipFill>
          <a:blip r:embed="rId2"/>
          <a:stretch/>
        </p:blipFill>
        <p:spPr>
          <a:xfrm>
            <a:off x="5796000" y="4149720"/>
            <a:ext cx="3141720" cy="198108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7"/>
          <p:cNvSpPr/>
          <p:nvPr/>
        </p:nvSpPr>
        <p:spPr>
          <a:xfrm>
            <a:off x="3276720" y="155736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49-19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395280" y="220500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olog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611280" y="3860640"/>
            <a:ext cx="4174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179280" y="292428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ditional reflex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6" name="Picture 15" descr="DOG1"/>
          <p:cNvPicPr/>
          <p:nvPr/>
        </p:nvPicPr>
        <p:blipFill>
          <a:blip r:embed="rId3"/>
          <a:stretch/>
        </p:blipFill>
        <p:spPr>
          <a:xfrm>
            <a:off x="324000" y="476280"/>
            <a:ext cx="2447640" cy="16668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7" descr=""/>
          <p:cNvPicPr/>
          <p:nvPr/>
        </p:nvPicPr>
        <p:blipFill>
          <a:blip r:embed="rId4"/>
          <a:stretch/>
        </p:blipFill>
        <p:spPr>
          <a:xfrm>
            <a:off x="324000" y="3716280"/>
            <a:ext cx="1803240" cy="28353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3" descr="28080-3019"/>
          <p:cNvPicPr/>
          <p:nvPr/>
        </p:nvPicPr>
        <p:blipFill>
          <a:blip r:embed="rId5"/>
          <a:stretch/>
        </p:blipFill>
        <p:spPr>
          <a:xfrm>
            <a:off x="2843280" y="4292640"/>
            <a:ext cx="253980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8200" y="465120"/>
            <a:ext cx="488952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bert Einstein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52240" y="2200320"/>
            <a:ext cx="4654440" cy="69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amous physicist-theorist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1" name="Picture 10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2162160" cy="280836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4"/>
          <p:cNvSpPr/>
          <p:nvPr/>
        </p:nvSpPr>
        <p:spPr>
          <a:xfrm>
            <a:off x="250920" y="285264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Germa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250920" y="371628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ved in Switzerland and in the U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2050920" y="472428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heory of rela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4911840" y="1432080"/>
            <a:ext cx="282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1187280" y="1125360"/>
            <a:ext cx="29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79-195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7" name="Picture 12" descr=""/>
          <p:cNvPicPr/>
          <p:nvPr/>
        </p:nvPicPr>
        <p:blipFill>
          <a:blip r:embed="rId2"/>
          <a:stretch/>
        </p:blipFill>
        <p:spPr>
          <a:xfrm>
            <a:off x="179280" y="4365720"/>
            <a:ext cx="1959120" cy="2120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4" descr=""/>
          <p:cNvPicPr/>
          <p:nvPr/>
        </p:nvPicPr>
        <p:blipFill>
          <a:blip r:embed="rId3"/>
          <a:stretch/>
        </p:blipFill>
        <p:spPr>
          <a:xfrm>
            <a:off x="7093080" y="3500280"/>
            <a:ext cx="1728720" cy="2583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bb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484000" y="1484280"/>
            <a:ext cx="602316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The world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of science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has no borders.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19280" y="380880"/>
            <a:ext cx="4392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Ts’ai Lu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131640" y="1484280"/>
            <a:ext cx="40388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inese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tretch/>
        </p:blipFill>
        <p:spPr>
          <a:xfrm>
            <a:off x="0" y="4229280"/>
            <a:ext cx="3419640" cy="26287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179280" y="2637000"/>
            <a:ext cx="61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paper in the first centu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7" descr="BOOKS2"/>
          <p:cNvPicPr/>
          <p:nvPr/>
        </p:nvPicPr>
        <p:blipFill>
          <a:blip r:embed="rId2"/>
          <a:stretch/>
        </p:blipFill>
        <p:spPr>
          <a:xfrm>
            <a:off x="6912000" y="4941720"/>
            <a:ext cx="2232000" cy="1525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"/>
          <p:cNvPicPr/>
          <p:nvPr/>
        </p:nvPicPr>
        <p:blipFill>
          <a:blip r:embed="rId3"/>
          <a:stretch/>
        </p:blipFill>
        <p:spPr>
          <a:xfrm>
            <a:off x="324000" y="260280"/>
            <a:ext cx="1326960" cy="1625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"/>
          <p:cNvPicPr/>
          <p:nvPr/>
        </p:nvPicPr>
        <p:blipFill>
          <a:blip r:embed="rId4"/>
          <a:stretch/>
        </p:blipFill>
        <p:spPr>
          <a:xfrm>
            <a:off x="4643280" y="3933720"/>
            <a:ext cx="3492720" cy="2611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1" descr=""/>
          <p:cNvPicPr/>
          <p:nvPr/>
        </p:nvPicPr>
        <p:blipFill>
          <a:blip r:embed="rId5"/>
          <a:stretch/>
        </p:blipFill>
        <p:spPr>
          <a:xfrm>
            <a:off x="6588000" y="1052640"/>
            <a:ext cx="2260800" cy="2716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saac Newton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427640" y="1341000"/>
            <a:ext cx="20160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643-172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15" descr=""/>
          <p:cNvPicPr/>
          <p:nvPr/>
        </p:nvPicPr>
        <p:blipFill>
          <a:blip r:embed="rId1"/>
          <a:stretch/>
        </p:blipFill>
        <p:spPr>
          <a:xfrm>
            <a:off x="6556320" y="404640"/>
            <a:ext cx="2282760" cy="3024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250920" y="5013360"/>
            <a:ext cx="56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 work “Elements of Natural philosophy”,1687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324000" y="616572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тематические числа натуральной философи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2124000" y="1916280"/>
            <a:ext cx="44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great English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250920" y="242100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611280" y="3645000"/>
            <a:ext cx="33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кон всемирного тяготе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468360" y="400536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 laws of mechani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324000" y="4581360"/>
            <a:ext cx="5833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и закона механи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395280" y="305928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w of universal gra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17" descr=""/>
          <p:cNvPicPr/>
          <p:nvPr/>
        </p:nvPicPr>
        <p:blipFill>
          <a:blip r:embed="rId2"/>
          <a:stretch/>
        </p:blipFill>
        <p:spPr>
          <a:xfrm>
            <a:off x="0" y="0"/>
            <a:ext cx="1833480" cy="2187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9" descr=""/>
          <p:cNvPicPr/>
          <p:nvPr/>
        </p:nvPicPr>
        <p:blipFill>
          <a:blip r:embed="rId3"/>
          <a:stretch/>
        </p:blipFill>
        <p:spPr>
          <a:xfrm>
            <a:off x="6659640" y="3573360"/>
            <a:ext cx="2309760" cy="30560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84360" y="549360"/>
            <a:ext cx="60451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Galileo Galilei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492360" y="980640"/>
            <a:ext cx="2160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6e6"/>
                </a:solidFill>
                <a:latin typeface="Tahoma"/>
              </a:rPr>
              <a:t>1564-164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6012000" y="1125360"/>
            <a:ext cx="302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talian scienti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826920" y="3500280"/>
            <a:ext cx="77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95280" y="3213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vent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468360" y="5661000"/>
            <a:ext cx="2735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5940360" y="2205000"/>
            <a:ext cx="230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mome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6084720" y="2781360"/>
            <a:ext cx="237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6156360" y="3429000"/>
            <a:ext cx="280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e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4680000" y="4941720"/>
            <a:ext cx="446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untains on the  mo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4788000" y="5697360"/>
            <a:ext cx="338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ots on the Su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15" descr=""/>
          <p:cNvPicPr/>
          <p:nvPr/>
        </p:nvPicPr>
        <p:blipFill>
          <a:blip r:embed="rId1"/>
          <a:stretch/>
        </p:blipFill>
        <p:spPr>
          <a:xfrm>
            <a:off x="39600" y="115920"/>
            <a:ext cx="2479680" cy="3025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"/>
          <p:cNvPicPr/>
          <p:nvPr/>
        </p:nvPicPr>
        <p:blipFill>
          <a:blip r:embed="rId2"/>
          <a:stretch/>
        </p:blipFill>
        <p:spPr>
          <a:xfrm>
            <a:off x="826920" y="3860640"/>
            <a:ext cx="1305000" cy="1872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7" descr=""/>
          <p:cNvPicPr/>
          <p:nvPr/>
        </p:nvPicPr>
        <p:blipFill>
          <a:blip r:embed="rId3"/>
          <a:stretch/>
        </p:blipFill>
        <p:spPr>
          <a:xfrm>
            <a:off x="4140360" y="1700280"/>
            <a:ext cx="1382400" cy="1727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8" descr=""/>
          <p:cNvPicPr/>
          <p:nvPr/>
        </p:nvPicPr>
        <p:blipFill>
          <a:blip r:embed="rId4"/>
          <a:stretch/>
        </p:blipFill>
        <p:spPr>
          <a:xfrm>
            <a:off x="2556000" y="1557360"/>
            <a:ext cx="1239840" cy="2232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9" descr=""/>
          <p:cNvPicPr/>
          <p:nvPr/>
        </p:nvPicPr>
        <p:blipFill>
          <a:blip r:embed="rId5"/>
          <a:stretch/>
        </p:blipFill>
        <p:spPr>
          <a:xfrm>
            <a:off x="3132000" y="4076640"/>
            <a:ext cx="1467000" cy="2336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2" descr="SCOPE"/>
          <p:cNvPicPr/>
          <p:nvPr/>
        </p:nvPicPr>
        <p:blipFill>
          <a:blip r:embed="rId6"/>
          <a:stretch/>
        </p:blipFill>
        <p:spPr>
          <a:xfrm>
            <a:off x="4140360" y="1628640"/>
            <a:ext cx="1484280" cy="2248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518292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ichael Faraday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85" name="Picture 12" descr=""/>
          <p:cNvPicPr/>
          <p:nvPr/>
        </p:nvPicPr>
        <p:blipFill>
          <a:blip r:embed="rId1"/>
          <a:stretch/>
        </p:blipFill>
        <p:spPr>
          <a:xfrm>
            <a:off x="6835680" y="2565360"/>
            <a:ext cx="2129040" cy="4103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"/>
          <p:cNvPicPr/>
          <p:nvPr/>
        </p:nvPicPr>
        <p:blipFill>
          <a:blip r:embed="rId2"/>
          <a:stretch/>
        </p:blipFill>
        <p:spPr>
          <a:xfrm>
            <a:off x="7288200" y="115920"/>
            <a:ext cx="1855800" cy="23493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539640" y="1125360"/>
            <a:ext cx="496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nglish physicist and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324000" y="1844640"/>
            <a:ext cx="59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nections  between electricity and magneti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79280" y="4292640"/>
            <a:ext cx="55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324000" y="3141720"/>
            <a:ext cx="6406920" cy="10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83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magneto-electricit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3348000" y="6922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791-186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14" descr=""/>
          <p:cNvPicPr/>
          <p:nvPr/>
        </p:nvPicPr>
        <p:blipFill>
          <a:blip r:embed="rId3"/>
          <a:stretch/>
        </p:blipFill>
        <p:spPr>
          <a:xfrm>
            <a:off x="179280" y="4584600"/>
            <a:ext cx="2521080" cy="20844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79640" y="380880"/>
            <a:ext cx="4829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Pop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95640" y="1413000"/>
            <a:ext cx="295272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9-190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Picture 8" descr=""/>
          <p:cNvPicPr/>
          <p:nvPr/>
        </p:nvPicPr>
        <p:blipFill>
          <a:blip r:embed="rId1"/>
          <a:stretch/>
        </p:blipFill>
        <p:spPr>
          <a:xfrm>
            <a:off x="6610320" y="620640"/>
            <a:ext cx="2484360" cy="33130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3276720" y="2276640"/>
            <a:ext cx="324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c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500720" y="4437000"/>
            <a:ext cx="35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radio,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89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0" y="5661000"/>
            <a:ext cx="896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t Golden Medal in the World Exhibition in Paris,190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Picture 10" descr=""/>
          <p:cNvPicPr/>
          <p:nvPr/>
        </p:nvPicPr>
        <p:blipFill>
          <a:blip r:embed="rId2"/>
          <a:stretch/>
        </p:blipFill>
        <p:spPr>
          <a:xfrm>
            <a:off x="179280" y="2924280"/>
            <a:ext cx="3276720" cy="2503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2" descr=""/>
          <p:cNvPicPr/>
          <p:nvPr/>
        </p:nvPicPr>
        <p:blipFill>
          <a:blip r:embed="rId3"/>
          <a:stretch/>
        </p:blipFill>
        <p:spPr>
          <a:xfrm>
            <a:off x="179280" y="333360"/>
            <a:ext cx="1584360" cy="1533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3" descr=""/>
          <p:cNvPicPr/>
          <p:nvPr/>
        </p:nvPicPr>
        <p:blipFill>
          <a:blip r:embed="rId1"/>
          <a:stretch/>
        </p:blipFill>
        <p:spPr>
          <a:xfrm>
            <a:off x="6156360" y="333360"/>
            <a:ext cx="2417760" cy="33116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18920" y="1267920"/>
            <a:ext cx="237492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8-191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395280" y="378936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395280" y="4005360"/>
            <a:ext cx="756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1547640" y="1989000"/>
            <a:ext cx="35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rman engine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250920" y="5950080"/>
            <a:ext cx="828036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d diesel engine, special machine in 1879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108000" y="189000"/>
            <a:ext cx="60483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Rudolf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Engine    Diesel</a:t>
            </a:r>
            <a:r>
              <a:rPr b="0" lang="en-US" sz="1800" spc="-1" strike="noStrike">
                <a:solidFill>
                  <a:srgbClr val="e5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9" name="Picture 15" descr=""/>
          <p:cNvPicPr/>
          <p:nvPr/>
        </p:nvPicPr>
        <p:blipFill>
          <a:blip r:embed="rId2"/>
          <a:stretch/>
        </p:blipFill>
        <p:spPr>
          <a:xfrm>
            <a:off x="179280" y="3573360"/>
            <a:ext cx="3405240" cy="23526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8" descr="TRAIN"/>
          <p:cNvPicPr/>
          <p:nvPr/>
        </p:nvPicPr>
        <p:blipFill>
          <a:blip r:embed="rId3"/>
          <a:stretch/>
        </p:blipFill>
        <p:spPr>
          <a:xfrm>
            <a:off x="3708360" y="2708280"/>
            <a:ext cx="1946160" cy="9698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9" descr="поезд"/>
          <p:cNvPicPr/>
          <p:nvPr/>
        </p:nvPicPr>
        <p:blipFill>
          <a:blip r:embed="rId4"/>
          <a:stretch/>
        </p:blipFill>
        <p:spPr>
          <a:xfrm>
            <a:off x="4716360" y="4221000"/>
            <a:ext cx="4032360" cy="1440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5045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Dimitry Mendeleye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58920" y="134136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34-190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1"/>
          <a:stretch/>
        </p:blipFill>
        <p:spPr>
          <a:xfrm>
            <a:off x="5576760" y="333360"/>
            <a:ext cx="2957760" cy="374508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4"/>
          <p:cNvSpPr/>
          <p:nvPr/>
        </p:nvSpPr>
        <p:spPr>
          <a:xfrm>
            <a:off x="324000" y="2637000"/>
            <a:ext cx="712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1042920" y="2060640"/>
            <a:ext cx="31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250920" y="57340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able of chemical  elements in 186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8" name="Picture 9" descr=""/>
          <p:cNvPicPr/>
          <p:nvPr/>
        </p:nvPicPr>
        <p:blipFill>
          <a:blip r:embed="rId2"/>
          <a:stretch/>
        </p:blipFill>
        <p:spPr>
          <a:xfrm>
            <a:off x="474840" y="2968560"/>
            <a:ext cx="4244760" cy="2538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"/>
          <p:cNvPicPr/>
          <p:nvPr/>
        </p:nvPicPr>
        <p:blipFill>
          <a:blip r:embed="rId3"/>
          <a:stretch/>
        </p:blipFill>
        <p:spPr>
          <a:xfrm>
            <a:off x="5435640" y="4292640"/>
            <a:ext cx="3095640" cy="1344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06:44:04Z</dcterms:created>
  <dc:creator>1</dc:creator>
  <dc:description/>
  <dc:language>en-US</dc:language>
  <cp:lastModifiedBy>orlova</cp:lastModifiedBy>
  <dcterms:modified xsi:type="dcterms:W3CDTF">2023-01-31T13:05:07Z</dcterms:modified>
  <cp:revision>120</cp:revision>
  <dc:subject/>
  <dc:title>Galileo Galilei </dc:title>
</cp:coreProperties>
</file>